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791-4261-4808-8B6A-93BB4113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CEE-8D4A-4549-8143-4AADABE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21D-ECAC-4B06-AE19-19E41BAE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A7B-A123-4F04-9B60-0451BB80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690-8EF5-4021-A0D6-61A452A4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247-7B70-4C01-8E91-DE96E7B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768-E654-4519-885C-72B15E43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39A0-CE45-4D37-9F1D-3F28B9CD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C95-27DF-4599-B37A-7DAE733F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1BE-8595-4BA2-AEE2-0AC8B6D8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BE0-15C9-4797-96A8-4B4E30B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A2C-8CBB-4116-AEA3-E64F4B0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F588-100E-400A-81C1-5981BC011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36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7:11:32Z</dcterms:created>
  <dc:creator>smuser</dc:creator>
  <dc:description/>
  <dc:language>en-US</dc:language>
  <cp:lastModifiedBy>smuser</cp:lastModifiedBy>
  <dcterms:modified xsi:type="dcterms:W3CDTF">2010-01-11T18:32:10Z</dcterms:modified>
  <cp:revision>2</cp:revision>
  <dc:subject/>
  <dc:title>Comparing Presidents</dc:title>
</cp:coreProperties>
</file>